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662B0C03-49C9-481C-A8A1-18E3FE3F9E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94600" y="752760"/>
            <a:ext cx="4953240" cy="37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body"/>
          </p:nvPr>
        </p:nvSpPr>
        <p:spPr>
          <a:xfrm>
            <a:off x="91296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body"/>
          </p:nvPr>
        </p:nvSpPr>
        <p:spPr>
          <a:xfrm>
            <a:off x="91296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body"/>
          </p:nvPr>
        </p:nvSpPr>
        <p:spPr>
          <a:xfrm>
            <a:off x="91296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body"/>
          </p:nvPr>
        </p:nvSpPr>
        <p:spPr>
          <a:xfrm>
            <a:off x="91296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77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77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2005  TTÜ  IT Kolledzh    T.Tammet   loeng 10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6FF8E886-13AA-4442-B699-75CDB2EC14D1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©   Baltic Computer Systems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7464600" y="6324480"/>
            <a:ext cx="1145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rkvara arhitektuur ja paradigmad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eerimiskeelte paradigm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1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suuremad algoritmikeelte paradigmad erivahendite järgi, mida keel pakub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6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143000" y="1676520"/>
            <a:ext cx="3809880" cy="2361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3352680"/>
            <a:ext cx="3809880" cy="23623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1981080"/>
            <a:ext cx="3810240" cy="23623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584360" y="2270160"/>
            <a:ext cx="2243520" cy="338040"/>
            <a:chOff x="1584360" y="2270160"/>
            <a:chExt cx="2243520" cy="338040"/>
          </a:xfrm>
        </p:grpSpPr>
        <p:sp>
          <p:nvSpPr>
            <p:cNvPr id="168" name=""/>
            <p:cNvSpPr/>
            <p:nvPr/>
          </p:nvSpPr>
          <p:spPr>
            <a:xfrm>
              <a:off x="1584360" y="2270160"/>
              <a:ext cx="212868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2520" y="2270160"/>
              <a:ext cx="211536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bjekt-orienteeritu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318280" y="2422440"/>
            <a:ext cx="1110960" cy="338040"/>
            <a:chOff x="5318280" y="2422440"/>
            <a:chExt cx="1110960" cy="338040"/>
          </a:xfrm>
        </p:grpSpPr>
        <p:sp>
          <p:nvSpPr>
            <p:cNvPr id="171" name=""/>
            <p:cNvSpPr/>
            <p:nvPr/>
          </p:nvSpPr>
          <p:spPr>
            <a:xfrm>
              <a:off x="5318280" y="2422440"/>
              <a:ext cx="108720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48520" y="2422440"/>
              <a:ext cx="1080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oogi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879640" y="4632480"/>
            <a:ext cx="1717200" cy="338040"/>
            <a:chOff x="2879640" y="4632480"/>
            <a:chExt cx="1717200" cy="338040"/>
          </a:xfrm>
        </p:grpSpPr>
        <p:sp>
          <p:nvSpPr>
            <p:cNvPr id="174" name=""/>
            <p:cNvSpPr/>
            <p:nvPr/>
          </p:nvSpPr>
          <p:spPr>
            <a:xfrm>
              <a:off x="2879640" y="4632480"/>
              <a:ext cx="1673280" cy="3362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31120" y="4632480"/>
              <a:ext cx="1665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unktsionaal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794040" y="5040360"/>
            <a:ext cx="1896120" cy="307800"/>
            <a:chOff x="3794040" y="5040360"/>
            <a:chExt cx="1896120" cy="307800"/>
          </a:xfrm>
        </p:grpSpPr>
        <p:sp>
          <p:nvSpPr>
            <p:cNvPr id="177" name=""/>
            <p:cNvSpPr/>
            <p:nvPr/>
          </p:nvSpPr>
          <p:spPr>
            <a:xfrm>
              <a:off x="3794040" y="5040360"/>
              <a:ext cx="186696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520" y="5040360"/>
              <a:ext cx="188064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askell, ML, Lisp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165640" y="2830680"/>
            <a:ext cx="1877400" cy="307800"/>
            <a:chOff x="5165640" y="2830680"/>
            <a:chExt cx="1877400" cy="307800"/>
          </a:xfrm>
        </p:grpSpPr>
        <p:sp>
          <p:nvSpPr>
            <p:cNvPr id="180" name=""/>
            <p:cNvSpPr/>
            <p:nvPr/>
          </p:nvSpPr>
          <p:spPr>
            <a:xfrm>
              <a:off x="5165640" y="2830680"/>
              <a:ext cx="1849680" cy="304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2200" y="2830680"/>
              <a:ext cx="186084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log, Prolog 2, .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433520" y="2664000"/>
            <a:ext cx="2187000" cy="307800"/>
            <a:chOff x="1433520" y="2664000"/>
            <a:chExt cx="2187000" cy="307800"/>
          </a:xfrm>
        </p:grpSpPr>
        <p:sp>
          <p:nvSpPr>
            <p:cNvPr id="183" name=""/>
            <p:cNvSpPr/>
            <p:nvPr/>
          </p:nvSpPr>
          <p:spPr>
            <a:xfrm>
              <a:off x="1433520" y="2664000"/>
              <a:ext cx="2135160" cy="304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70240" y="2664000"/>
              <a:ext cx="21502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malltalk, C++, Java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286000" y="2971800"/>
            <a:ext cx="18288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mperatiiv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, Pascal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2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 algoritmilised ja kirjelduskeel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, C++, Basic, COBOL, Java, Lisp, assembler .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ML, RDF, XML, SQL, 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rraga mõlemat: loogik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, algoritmilise keele abil töödeldakse kirjeldus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: Javascript ja HTML.,   C ja SQL, 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8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505320" y="3809880"/>
            <a:ext cx="29718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e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3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3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 rakendusteeg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amik keeli EI SISALDA STANDARDSEID TEEKE või need teegid on äärmiselt piir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de: ANSI C. ANSI C teek sisaldab stringtöötlust, failitöötlust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ükkimist, veel paari analoogilist kategooria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na on võimsad rakendusteegid (graafika, aknad, hiir, võrguühendused, paralleelprotsessid jne ...) ebastandardsed, piiratud teatud riistvara ja opsüsteemiga  (Windows 95, Windows NT, X windows, Linux, ...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 ainus eran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95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aktilised rakendusvald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ne, välja arvatud tippkiirust nõudvad või operatsioonisüsteemi-rakenduse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ksimaalset kiirust nõudvad rakendused, UNIXi süsteemprogrammeerimine: C, C++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i rakenduste programmeerimine: C#, VisualBasic, Delphi,  C, Java,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rauseri programmeerimine: Javascript,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rogrammeerimine: Java, Perl, PHP, Python, C, 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20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CVS, subversion, jn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...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205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jaloolised vaat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tootmise organiseeri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21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191120" y="3728880"/>
            <a:ext cx="1066680" cy="10764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ifaa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45-1970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70-1995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95-2020?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Süsteemi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urarvutid           -         Mikroarvutid       -        Võrgusüsteemid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B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Tarkvaraplatvormi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ssembler, puhtad keeled -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egid, arendusvahendid, komponendid -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mponentide sidu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C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Tootmise organiseerimis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urfirma, avatud   -    väikefirma, suletud   -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abad komponendid, sidumine, hooldu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22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6640" y="0"/>
            <a:ext cx="7848720" cy="760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226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838080" y="606240"/>
            <a:ext cx="7769520" cy="306360"/>
            <a:chOff x="838080" y="606240"/>
            <a:chExt cx="7769520" cy="306360"/>
          </a:xfrm>
        </p:grpSpPr>
        <p:sp>
          <p:nvSpPr>
            <p:cNvPr id="231" name=""/>
            <p:cNvSpPr/>
            <p:nvPr/>
          </p:nvSpPr>
          <p:spPr>
            <a:xfrm>
              <a:off x="838080" y="9097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8605800" y="606240"/>
              <a:ext cx="180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828800" y="3429000"/>
            <a:ext cx="298440" cy="303120"/>
            <a:chOff x="1828800" y="3429000"/>
            <a:chExt cx="298440" cy="303120"/>
          </a:xfrm>
        </p:grpSpPr>
        <p:sp>
          <p:nvSpPr>
            <p:cNvPr id="234" name=""/>
            <p:cNvSpPr/>
            <p:nvPr/>
          </p:nvSpPr>
          <p:spPr>
            <a:xfrm>
              <a:off x="1828800" y="34290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28800" y="34290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2720" y="34290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238" name=""/>
            <p:cNvSpPr/>
            <p:nvPr/>
          </p:nvSpPr>
          <p:spPr>
            <a:xfrm>
              <a:off x="5181480" y="2514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81480" y="2514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05400" y="25146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242" name=""/>
            <p:cNvSpPr/>
            <p:nvPr/>
          </p:nvSpPr>
          <p:spPr>
            <a:xfrm>
              <a:off x="3200400" y="35812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0400" y="35812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4320" y="35812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246" name=""/>
            <p:cNvSpPr/>
            <p:nvPr/>
          </p:nvSpPr>
          <p:spPr>
            <a:xfrm>
              <a:off x="4648320" y="350532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350532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71880" y="350532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250" name=""/>
            <p:cNvSpPr/>
            <p:nvPr/>
          </p:nvSpPr>
          <p:spPr>
            <a:xfrm>
              <a:off x="6248520" y="3657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48520" y="3657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72080" y="365760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600200" y="5257800"/>
            <a:ext cx="298440" cy="303120"/>
            <a:chOff x="1600200" y="5257800"/>
            <a:chExt cx="298440" cy="303120"/>
          </a:xfrm>
        </p:grpSpPr>
        <p:sp>
          <p:nvSpPr>
            <p:cNvPr id="254" name=""/>
            <p:cNvSpPr/>
            <p:nvPr/>
          </p:nvSpPr>
          <p:spPr>
            <a:xfrm>
              <a:off x="1600200" y="52578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00200" y="52578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4120" y="52578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258" name=""/>
            <p:cNvSpPr/>
            <p:nvPr/>
          </p:nvSpPr>
          <p:spPr>
            <a:xfrm>
              <a:off x="3352680" y="27432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52680" y="27432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76600" y="27432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262" name=""/>
            <p:cNvSpPr/>
            <p:nvPr/>
          </p:nvSpPr>
          <p:spPr>
            <a:xfrm>
              <a:off x="3886200" y="51814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86200" y="51814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10120" y="51814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266" name=""/>
            <p:cNvSpPr/>
            <p:nvPr/>
          </p:nvSpPr>
          <p:spPr>
            <a:xfrm>
              <a:off x="5486400" y="4800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6400" y="4800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10320" y="48006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270" name=""/>
            <p:cNvSpPr/>
            <p:nvPr/>
          </p:nvSpPr>
          <p:spPr>
            <a:xfrm>
              <a:off x="3048120" y="45720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48120" y="45720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71680" y="457200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274" name=""/>
            <p:cNvSpPr/>
            <p:nvPr/>
          </p:nvSpPr>
          <p:spPr>
            <a:xfrm>
              <a:off x="5867280" y="17524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17524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91200" y="17524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 flipV="1">
            <a:off x="2133720" y="3042720"/>
            <a:ext cx="122076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676520" y="3728880"/>
            <a:ext cx="228600" cy="153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905120" y="4871520"/>
            <a:ext cx="1218960" cy="54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172200" y="1519200"/>
            <a:ext cx="1143000" cy="2383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86600" y="1523880"/>
            <a:ext cx="171756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228800" y="4309920"/>
            <a:ext cx="1877760" cy="2310120"/>
            <a:chOff x="7228800" y="4309920"/>
            <a:chExt cx="1877760" cy="2310120"/>
          </a:xfrm>
        </p:grpSpPr>
        <p:sp>
          <p:nvSpPr>
            <p:cNvPr id="302" name=""/>
            <p:cNvSpPr/>
            <p:nvPr/>
          </p:nvSpPr>
          <p:spPr>
            <a:xfrm>
              <a:off x="7232760" y="4309920"/>
              <a:ext cx="1650960" cy="2310120"/>
            </a:xfrm>
            <a:custGeom>
              <a:avLst/>
              <a:gdLst>
                <a:gd name="textAreaLeft" fmla="*/ 360 w 1650960"/>
                <a:gd name="textAreaRight" fmla="*/ 1650600 w 1650960"/>
                <a:gd name="textAreaTop" fmla="*/ 360 h 2310120"/>
                <a:gd name="textAreaBottom" fmla="*/ 2309760 h 2310120"/>
              </a:gdLst>
              <a:ahLst/>
              <a:rect l="textAreaLeft" t="textAreaTop" r="textAreaRight" b="textAreaBottom"/>
              <a:pathLst>
                <a:path w="21600" h="30222">
                  <a:moveTo>
                    <a:pt x="20" y="0"/>
                  </a:moveTo>
                  <a:arcTo wR="20" hR="20" stAng="16200000" swAng="-5400000"/>
                  <a:lnTo>
                    <a:pt x="0" y="30202"/>
                  </a:lnTo>
                  <a:arcTo wR="20" hR="20" stAng="10800000" swAng="-5400000"/>
                  <a:lnTo>
                    <a:pt x="21580" y="30222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28800" y="431172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-4226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30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981080" y="3352680"/>
            <a:ext cx="457200" cy="534960"/>
            <a:chOff x="1981080" y="3352680"/>
            <a:chExt cx="457200" cy="534960"/>
          </a:xfrm>
        </p:grpSpPr>
        <p:sp>
          <p:nvSpPr>
            <p:cNvPr id="310" name=""/>
            <p:cNvSpPr/>
            <p:nvPr/>
          </p:nvSpPr>
          <p:spPr>
            <a:xfrm>
              <a:off x="1981080" y="335268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84400" y="3735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572000" y="1371600"/>
            <a:ext cx="457200" cy="534960"/>
            <a:chOff x="4572000" y="1371600"/>
            <a:chExt cx="457200" cy="534960"/>
          </a:xfrm>
        </p:grpSpPr>
        <p:sp>
          <p:nvSpPr>
            <p:cNvPr id="315" name=""/>
            <p:cNvSpPr/>
            <p:nvPr/>
          </p:nvSpPr>
          <p:spPr>
            <a:xfrm>
              <a:off x="4572000" y="137160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499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75320" y="17542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V="1">
            <a:off x="243684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 ja perekonn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onendid: terviksüsteemid, serverid, 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radigmad, vaated, rakendusvaldkonn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usvah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&amp; tootmine: ajaloolised faas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nduse are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steemide integratsio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use filosoofi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ba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6640" y="377640"/>
            <a:ext cx="7769160" cy="306360"/>
            <a:chOff x="836640" y="377640"/>
            <a:chExt cx="7769160" cy="306360"/>
          </a:xfrm>
        </p:grpSpPr>
        <p:sp>
          <p:nvSpPr>
            <p:cNvPr id="93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914400" y="299880"/>
            <a:ext cx="7772400" cy="308160"/>
            <a:chOff x="914400" y="299880"/>
            <a:chExt cx="7772400" cy="308160"/>
          </a:xfrm>
        </p:grpSpPr>
        <p:sp>
          <p:nvSpPr>
            <p:cNvPr id="331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8685360" y="299880"/>
              <a:ext cx="144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979640" y="3351240"/>
            <a:ext cx="457200" cy="534960"/>
            <a:chOff x="1979640" y="3351240"/>
            <a:chExt cx="457200" cy="534960"/>
          </a:xfrm>
        </p:grpSpPr>
        <p:sp>
          <p:nvSpPr>
            <p:cNvPr id="334" name=""/>
            <p:cNvSpPr/>
            <p:nvPr/>
          </p:nvSpPr>
          <p:spPr>
            <a:xfrm>
              <a:off x="1979640" y="335124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099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575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84400" y="3733920"/>
              <a:ext cx="252360" cy="5220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570560" y="1370160"/>
            <a:ext cx="457200" cy="534960"/>
            <a:chOff x="4570560" y="1370160"/>
            <a:chExt cx="457200" cy="534960"/>
          </a:xfrm>
        </p:grpSpPr>
        <p:sp>
          <p:nvSpPr>
            <p:cNvPr id="339" name=""/>
            <p:cNvSpPr/>
            <p:nvPr/>
          </p:nvSpPr>
          <p:spPr>
            <a:xfrm>
              <a:off x="4570560" y="13701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00520" y="15271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48120" y="15271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75320" y="17524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5120" y="2360520"/>
            <a:ext cx="457200" cy="534960"/>
            <a:chOff x="4875120" y="2360520"/>
            <a:chExt cx="457200" cy="534960"/>
          </a:xfrm>
        </p:grpSpPr>
        <p:sp>
          <p:nvSpPr>
            <p:cNvPr id="344" name=""/>
            <p:cNvSpPr/>
            <p:nvPr/>
          </p:nvSpPr>
          <p:spPr>
            <a:xfrm>
              <a:off x="4875120" y="23605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0544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5304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79880" y="27446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494240" y="5484960"/>
            <a:ext cx="457200" cy="534960"/>
            <a:chOff x="4494240" y="5484960"/>
            <a:chExt cx="457200" cy="534960"/>
          </a:xfrm>
        </p:grpSpPr>
        <p:sp>
          <p:nvSpPr>
            <p:cNvPr id="349" name=""/>
            <p:cNvSpPr/>
            <p:nvPr/>
          </p:nvSpPr>
          <p:spPr>
            <a:xfrm>
              <a:off x="4494240" y="54849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24560" y="564192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72160" y="564192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99000" y="58672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03720" y="3427560"/>
            <a:ext cx="457200" cy="534960"/>
            <a:chOff x="5103720" y="3427560"/>
            <a:chExt cx="457200" cy="534960"/>
          </a:xfrm>
        </p:grpSpPr>
        <p:sp>
          <p:nvSpPr>
            <p:cNvPr id="354" name=""/>
            <p:cNvSpPr/>
            <p:nvPr/>
          </p:nvSpPr>
          <p:spPr>
            <a:xfrm>
              <a:off x="5103720" y="34275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34040" y="35845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81640" y="35845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08480" y="38098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875120" y="4646520"/>
            <a:ext cx="457200" cy="534960"/>
            <a:chOff x="4875120" y="4646520"/>
            <a:chExt cx="457200" cy="534960"/>
          </a:xfrm>
        </p:grpSpPr>
        <p:sp>
          <p:nvSpPr>
            <p:cNvPr id="359" name=""/>
            <p:cNvSpPr/>
            <p:nvPr/>
          </p:nvSpPr>
          <p:spPr>
            <a:xfrm>
              <a:off x="4875120" y="46465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0544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5304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79880" y="50306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 flipV="1">
            <a:off x="2436840" y="1898280"/>
            <a:ext cx="2057400" cy="153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589120" y="2738520"/>
            <a:ext cx="221004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95880" y="208296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128080" y="123516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6640" y="-2019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14400" y="299880"/>
            <a:ext cx="7772400" cy="308160"/>
            <a:chOff x="914400" y="299880"/>
            <a:chExt cx="7772400" cy="308160"/>
          </a:xfrm>
        </p:grpSpPr>
        <p:sp>
          <p:nvSpPr>
            <p:cNvPr id="374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8685360" y="299880"/>
              <a:ext cx="144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979640" y="3351240"/>
            <a:ext cx="457200" cy="534960"/>
            <a:chOff x="1979640" y="3351240"/>
            <a:chExt cx="457200" cy="534960"/>
          </a:xfrm>
        </p:grpSpPr>
        <p:sp>
          <p:nvSpPr>
            <p:cNvPr id="377" name=""/>
            <p:cNvSpPr/>
            <p:nvPr/>
          </p:nvSpPr>
          <p:spPr>
            <a:xfrm>
              <a:off x="1979640" y="335124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099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575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84400" y="3733920"/>
              <a:ext cx="252360" cy="5220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V="1">
            <a:off x="2436840" y="1898280"/>
            <a:ext cx="2057400" cy="153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589120" y="2738520"/>
            <a:ext cx="221004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23160" y="208296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15480" y="11494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299880"/>
            <a:ext cx="7772400" cy="308160"/>
            <a:chOff x="914400" y="299880"/>
            <a:chExt cx="7772400" cy="308160"/>
          </a:xfrm>
        </p:grpSpPr>
        <p:sp>
          <p:nvSpPr>
            <p:cNvPr id="397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8685360" y="299880"/>
              <a:ext cx="144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V="1">
            <a:off x="2436840" y="1898280"/>
            <a:ext cx="2057400" cy="153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589120" y="2738520"/>
            <a:ext cx="221004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1720" y="208296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XML + Semantic 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139240" y="1258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914400" y="299880"/>
            <a:ext cx="7772400" cy="308160"/>
            <a:chOff x="914400" y="299880"/>
            <a:chExt cx="7772400" cy="308160"/>
          </a:xfrm>
        </p:grpSpPr>
        <p:sp>
          <p:nvSpPr>
            <p:cNvPr id="416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685360" y="299880"/>
              <a:ext cx="144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 flipV="1">
            <a:off x="1903320" y="2738160"/>
            <a:ext cx="228600" cy="9205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37240" y="1217520"/>
            <a:ext cx="15256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436840" y="1138320"/>
            <a:ext cx="251460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14600" y="2209680"/>
            <a:ext cx="3352680" cy="1065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7315200" y="21319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"/>
          <a:stretch/>
        </p:blipFill>
        <p:spPr>
          <a:xfrm>
            <a:off x="1979640" y="190332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5"/>
          <a:stretch/>
        </p:blipFill>
        <p:spPr>
          <a:xfrm>
            <a:off x="5486400" y="47228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6"/>
          <a:stretch/>
        </p:blipFill>
        <p:spPr>
          <a:xfrm>
            <a:off x="6094440" y="3274920"/>
            <a:ext cx="385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1598760" y="3732120"/>
            <a:ext cx="457200" cy="534960"/>
            <a:chOff x="1598760" y="3732120"/>
            <a:chExt cx="457200" cy="534960"/>
          </a:xfrm>
        </p:grpSpPr>
        <p:sp>
          <p:nvSpPr>
            <p:cNvPr id="429" name=""/>
            <p:cNvSpPr/>
            <p:nvPr/>
          </p:nvSpPr>
          <p:spPr>
            <a:xfrm>
              <a:off x="1598760" y="37321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28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763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03520" y="41162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 flipV="1">
            <a:off x="2057400" y="3728880"/>
            <a:ext cx="3886200" cy="828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6548400" y="2894040"/>
            <a:ext cx="92088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7462440" y="3046320"/>
            <a:ext cx="15876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014520" y="4417920"/>
            <a:ext cx="122580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2320" y="1674720"/>
            <a:ext cx="83988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4:   Sky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44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7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447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719680" y="4572000"/>
            <a:ext cx="452520" cy="528480"/>
            <a:chOff x="5719680" y="4572000"/>
            <a:chExt cx="452520" cy="528480"/>
          </a:xfrm>
        </p:grpSpPr>
        <p:sp>
          <p:nvSpPr>
            <p:cNvPr id="452" name=""/>
            <p:cNvSpPr/>
            <p:nvPr/>
          </p:nvSpPr>
          <p:spPr>
            <a:xfrm>
              <a:off x="5719680" y="4572000"/>
              <a:ext cx="4525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50000" y="47293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96160" y="47293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23000" y="49500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459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466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5008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9624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23080" y="58644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473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83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29560" y="351000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5640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 flipV="1">
            <a:off x="4267080" y="4719600"/>
            <a:ext cx="2438640" cy="2383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481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0728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180280" y="47973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267080" y="4032360"/>
            <a:ext cx="381240" cy="390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743200" y="5328720"/>
            <a:ext cx="533520" cy="543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493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500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486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962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21640" y="58644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507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819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295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5496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 flipV="1">
            <a:off x="4267080" y="4716360"/>
            <a:ext cx="2438640" cy="2383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515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2058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178840" y="4797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267080" y="4032360"/>
            <a:ext cx="381240" cy="390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743200" y="5328720"/>
            <a:ext cx="533520" cy="543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528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705720" y="2438280"/>
            <a:ext cx="1752480" cy="1295640"/>
            <a:chOff x="6705720" y="2438280"/>
            <a:chExt cx="1752480" cy="1295640"/>
          </a:xfrm>
        </p:grpSpPr>
        <p:sp>
          <p:nvSpPr>
            <p:cNvPr id="531" name=""/>
            <p:cNvSpPr/>
            <p:nvPr/>
          </p:nvSpPr>
          <p:spPr>
            <a:xfrm>
              <a:off x="6848640" y="27129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99520" y="28656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981920" y="25099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40520" y="3273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837560" y="283500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34200" y="29415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354800" y="3268800"/>
              <a:ext cx="16848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05720" y="24382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33520" y="3124080"/>
            <a:ext cx="1752480" cy="1295640"/>
            <a:chOff x="533520" y="3124080"/>
            <a:chExt cx="1752480" cy="1295640"/>
          </a:xfrm>
        </p:grpSpPr>
        <p:sp>
          <p:nvSpPr>
            <p:cNvPr id="540" name=""/>
            <p:cNvSpPr/>
            <p:nvPr/>
          </p:nvSpPr>
          <p:spPr>
            <a:xfrm>
              <a:off x="676440" y="33987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27320" y="35514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09720" y="31957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68320" y="39592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665360" y="352080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62000" y="36273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182600" y="3954600"/>
              <a:ext cx="16848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520" y="31240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828800" y="5105520"/>
            <a:ext cx="1752480" cy="1295280"/>
            <a:chOff x="1828800" y="5105520"/>
            <a:chExt cx="1752480" cy="1295280"/>
          </a:xfrm>
        </p:grpSpPr>
        <p:sp>
          <p:nvSpPr>
            <p:cNvPr id="549" name=""/>
            <p:cNvSpPr/>
            <p:nvPr/>
          </p:nvSpPr>
          <p:spPr>
            <a:xfrm>
              <a:off x="1971720" y="53802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22600" y="55324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05000" y="51768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62160" y="59403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960640" y="550188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55840" y="56088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478240" y="5935680"/>
              <a:ext cx="16812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8288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733920" y="3505320"/>
            <a:ext cx="1752480" cy="1295280"/>
            <a:chOff x="3733920" y="3505320"/>
            <a:chExt cx="1752480" cy="1295280"/>
          </a:xfrm>
        </p:grpSpPr>
        <p:sp>
          <p:nvSpPr>
            <p:cNvPr id="558" name=""/>
            <p:cNvSpPr/>
            <p:nvPr/>
          </p:nvSpPr>
          <p:spPr>
            <a:xfrm>
              <a:off x="3876840" y="37800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27720" y="39322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10120" y="35766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68720" y="43401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865760" y="390168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62400" y="40086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4383000" y="4335480"/>
              <a:ext cx="16848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33920" y="3505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952880" y="5257800"/>
            <a:ext cx="1752840" cy="1295280"/>
            <a:chOff x="4952880" y="5257800"/>
            <a:chExt cx="1752840" cy="1295280"/>
          </a:xfrm>
        </p:grpSpPr>
        <p:sp>
          <p:nvSpPr>
            <p:cNvPr id="567" name=""/>
            <p:cNvSpPr/>
            <p:nvPr/>
          </p:nvSpPr>
          <p:spPr>
            <a:xfrm>
              <a:off x="5095800" y="5532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46680" y="5683320"/>
              <a:ext cx="289080" cy="4096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29440" y="532764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89480" y="60930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084720" y="5652720"/>
              <a:ext cx="12096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81720" y="576108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602320" y="6086520"/>
              <a:ext cx="16812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52880" y="5257800"/>
              <a:ext cx="175284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8151840" y="4800600"/>
            <a:ext cx="453960" cy="528480"/>
            <a:chOff x="8151840" y="4800600"/>
            <a:chExt cx="453960" cy="528480"/>
          </a:xfrm>
        </p:grpSpPr>
        <p:sp>
          <p:nvSpPr>
            <p:cNvPr id="577" name=""/>
            <p:cNvSpPr/>
            <p:nvPr/>
          </p:nvSpPr>
          <p:spPr>
            <a:xfrm>
              <a:off x="8151840" y="480060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83600" y="4957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429760" y="4957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583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0668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379680" y="29685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588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379440" y="6019920"/>
            <a:ext cx="453960" cy="528480"/>
            <a:chOff x="379440" y="6019920"/>
            <a:chExt cx="453960" cy="528480"/>
          </a:xfrm>
        </p:grpSpPr>
        <p:sp>
          <p:nvSpPr>
            <p:cNvPr id="593" name=""/>
            <p:cNvSpPr/>
            <p:nvPr/>
          </p:nvSpPr>
          <p:spPr>
            <a:xfrm>
              <a:off x="379440" y="6019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 flipV="1">
            <a:off x="1371600" y="5938920"/>
            <a:ext cx="380880" cy="162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486400" y="4110120"/>
            <a:ext cx="2057400" cy="85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5562720" y="3119040"/>
            <a:ext cx="990360" cy="466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1595160" y="4414320"/>
            <a:ext cx="314280" cy="543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576240" y="5715000"/>
            <a:ext cx="12286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508120" y="3728880"/>
            <a:ext cx="1000080" cy="2383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738520" y="4343400"/>
            <a:ext cx="92376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433240" y="2971800"/>
            <a:ext cx="77148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some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4840" y="0"/>
            <a:ext cx="7848360" cy="78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s based on web servic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lobal comparison/search system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rbitz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innavaatl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tonian public sector: xtee complex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ument management between different organis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financial apps: banks et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les system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itary app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610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steemide arhitektuur ja pere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98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74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5200" y="758520"/>
            <a:ext cx="785160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d then execute.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615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5200" y="75852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d then execute.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620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4572000" y="388620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91760" y="3657600"/>
            <a:ext cx="375300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5200" y="75852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d then execute.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938160" y="581040"/>
            <a:ext cx="7770960" cy="311040"/>
            <a:chOff x="938160" y="581040"/>
            <a:chExt cx="7770960" cy="311040"/>
          </a:xfrm>
        </p:grpSpPr>
        <p:sp>
          <p:nvSpPr>
            <p:cNvPr id="627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8707320" y="581040"/>
              <a:ext cx="180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4572000" y="388620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3657600"/>
            <a:ext cx="3678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029200" y="5029200"/>
            <a:ext cx="367812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re often exchanged or replace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635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938160" y="581040"/>
            <a:ext cx="7770960" cy="311040"/>
            <a:chOff x="938160" y="581040"/>
            <a:chExt cx="7770960" cy="311040"/>
          </a:xfrm>
        </p:grpSpPr>
        <p:sp>
          <p:nvSpPr>
            <p:cNvPr id="640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8707320" y="581040"/>
              <a:ext cx="180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8153280" y="4800600"/>
            <a:ext cx="454320" cy="528480"/>
            <a:chOff x="8153280" y="4800600"/>
            <a:chExt cx="454320" cy="528480"/>
          </a:xfrm>
        </p:grpSpPr>
        <p:sp>
          <p:nvSpPr>
            <p:cNvPr id="644" name=""/>
            <p:cNvSpPr/>
            <p:nvPr/>
          </p:nvSpPr>
          <p:spPr>
            <a:xfrm>
              <a:off x="8153280" y="480060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649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654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80880" y="6019920"/>
            <a:ext cx="454320" cy="528480"/>
            <a:chOff x="380880" y="6019920"/>
            <a:chExt cx="454320" cy="528480"/>
          </a:xfrm>
        </p:grpSpPr>
        <p:sp>
          <p:nvSpPr>
            <p:cNvPr id="659" name=""/>
            <p:cNvSpPr/>
            <p:nvPr/>
          </p:nvSpPr>
          <p:spPr>
            <a:xfrm>
              <a:off x="380880" y="601992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flipV="1">
            <a:off x="1371600" y="5935680"/>
            <a:ext cx="380880" cy="162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5486400" y="4110120"/>
            <a:ext cx="2057400" cy="85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86400" y="3195720"/>
            <a:ext cx="990720" cy="4665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1595160" y="4414320"/>
            <a:ext cx="314280" cy="543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576240" y="5715000"/>
            <a:ext cx="12286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508120" y="3728880"/>
            <a:ext cx="1000080" cy="2383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738520" y="4343400"/>
            <a:ext cx="92376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2433240" y="2971800"/>
            <a:ext cx="77148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533520" y="2971800"/>
            <a:ext cx="1753920" cy="1295280"/>
            <a:chOff x="533520" y="2971800"/>
            <a:chExt cx="1753920" cy="1295280"/>
          </a:xfrm>
        </p:grpSpPr>
        <p:sp>
          <p:nvSpPr>
            <p:cNvPr id="672" name=""/>
            <p:cNvSpPr/>
            <p:nvPr/>
          </p:nvSpPr>
          <p:spPr>
            <a:xfrm>
              <a:off x="53352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841320" y="2971800"/>
              <a:ext cx="1216080" cy="1143000"/>
              <a:chOff x="841320" y="2971800"/>
              <a:chExt cx="1216080" cy="1143000"/>
            </a:xfrm>
          </p:grpSpPr>
          <p:sp>
            <p:nvSpPr>
              <p:cNvPr id="674" name=""/>
              <p:cNvSpPr/>
              <p:nvPr/>
            </p:nvSpPr>
            <p:spPr>
              <a:xfrm flipV="1">
                <a:off x="1627200" y="3296880"/>
                <a:ext cx="120600" cy="136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025640" y="34034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1147680" y="3652920"/>
                <a:ext cx="168480" cy="18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7" name=""/>
              <p:cNvGrpSpPr/>
              <p:nvPr/>
            </p:nvGrpSpPr>
            <p:grpSpPr>
              <a:xfrm>
                <a:off x="1833480" y="2971800"/>
                <a:ext cx="223920" cy="457200"/>
                <a:chOff x="1833480" y="2971800"/>
                <a:chExt cx="223920" cy="45720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1833480" y="2971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897200" y="3106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969920" y="3106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884240" y="3298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1376280" y="3200400"/>
                <a:ext cx="223920" cy="457200"/>
                <a:chOff x="1376280" y="3200400"/>
                <a:chExt cx="223920" cy="45720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1376280" y="32004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440000" y="33354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512720" y="33354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427040" y="35272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841320" y="3044880"/>
                <a:ext cx="223920" cy="457200"/>
                <a:chOff x="841320" y="3044880"/>
                <a:chExt cx="223920" cy="4572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841320" y="30448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905040" y="31798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976320" y="31798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92080" y="33703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919080" y="3657600"/>
                <a:ext cx="223920" cy="457200"/>
                <a:chOff x="919080" y="3657600"/>
                <a:chExt cx="223920" cy="4572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919080" y="3657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982800" y="3792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055520" y="37926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969840" y="39844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7" name=""/>
            <p:cNvSpPr/>
            <p:nvPr/>
          </p:nvSpPr>
          <p:spPr>
            <a:xfrm>
              <a:off x="53496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1676520" y="5029200"/>
            <a:ext cx="1752480" cy="1295280"/>
            <a:chOff x="1676520" y="5029200"/>
            <a:chExt cx="1752480" cy="1295280"/>
          </a:xfrm>
        </p:grpSpPr>
        <p:sp>
          <p:nvSpPr>
            <p:cNvPr id="699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1984320" y="5029200"/>
              <a:ext cx="1216080" cy="1143000"/>
              <a:chOff x="1984320" y="5029200"/>
              <a:chExt cx="1216080" cy="1143000"/>
            </a:xfrm>
          </p:grpSpPr>
          <p:sp>
            <p:nvSpPr>
              <p:cNvPr id="701" name=""/>
              <p:cNvSpPr/>
              <p:nvPr/>
            </p:nvSpPr>
            <p:spPr>
              <a:xfrm flipV="1">
                <a:off x="2770200" y="5354280"/>
                <a:ext cx="120600" cy="136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168640" y="54608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290680" y="5710320"/>
                <a:ext cx="168480" cy="18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4" name=""/>
              <p:cNvGrpSpPr/>
              <p:nvPr/>
            </p:nvGrpSpPr>
            <p:grpSpPr>
              <a:xfrm>
                <a:off x="2976480" y="5029200"/>
                <a:ext cx="223920" cy="457200"/>
                <a:chOff x="2976480" y="5029200"/>
                <a:chExt cx="223920" cy="45720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2976480" y="5029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3040200" y="5164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112920" y="51642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027240" y="53560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2519280" y="5257800"/>
                <a:ext cx="223920" cy="457200"/>
                <a:chOff x="2519280" y="5257800"/>
                <a:chExt cx="223920" cy="45720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2519280" y="5257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583000" y="5392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655720" y="5392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570040" y="5584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1984320" y="5102280"/>
                <a:ext cx="223920" cy="457200"/>
                <a:chOff x="1984320" y="5102280"/>
                <a:chExt cx="223920" cy="45720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1984320" y="51022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048040" y="52372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119320" y="52372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33640" y="54277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062080" y="5715000"/>
                <a:ext cx="223920" cy="457200"/>
                <a:chOff x="2062080" y="5715000"/>
                <a:chExt cx="223920" cy="45720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062080" y="57150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125800" y="58500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198520" y="58500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112840" y="60418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4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726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728" name=""/>
              <p:cNvSpPr/>
              <p:nvPr/>
            </p:nvSpPr>
            <p:spPr>
              <a:xfrm flipV="1">
                <a:off x="4751280" y="4059000"/>
                <a:ext cx="120600" cy="136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272120" y="4413240"/>
                <a:ext cx="168120" cy="18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1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1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029200" y="5105520"/>
            <a:ext cx="1752480" cy="1295280"/>
            <a:chOff x="5029200" y="5105520"/>
            <a:chExt cx="1752480" cy="1295280"/>
          </a:xfrm>
        </p:grpSpPr>
        <p:sp>
          <p:nvSpPr>
            <p:cNvPr id="753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335560" y="5105520"/>
              <a:ext cx="1217520" cy="1143000"/>
              <a:chOff x="5335560" y="5105520"/>
              <a:chExt cx="1217520" cy="1143000"/>
            </a:xfrm>
          </p:grpSpPr>
          <p:sp>
            <p:nvSpPr>
              <p:cNvPr id="755" name=""/>
              <p:cNvSpPr/>
              <p:nvPr/>
            </p:nvSpPr>
            <p:spPr>
              <a:xfrm flipV="1">
                <a:off x="6122880" y="5430600"/>
                <a:ext cx="120600" cy="136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521320" y="55371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5643720" y="5784840"/>
                <a:ext cx="168120" cy="18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8" name=""/>
              <p:cNvGrpSpPr/>
              <p:nvPr/>
            </p:nvGrpSpPr>
            <p:grpSpPr>
              <a:xfrm>
                <a:off x="6329520" y="5105520"/>
                <a:ext cx="223560" cy="457200"/>
                <a:chOff x="6329520" y="5105520"/>
                <a:chExt cx="223560" cy="45720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6329520" y="5105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392880" y="5238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465960" y="5238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380280" y="5432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5872320" y="5334120"/>
                <a:ext cx="223560" cy="457200"/>
                <a:chOff x="5872320" y="5334120"/>
                <a:chExt cx="223560" cy="45720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872320" y="53341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935680" y="54673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008760" y="54673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923080" y="5661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5335560" y="5176800"/>
                <a:ext cx="223920" cy="457200"/>
                <a:chOff x="5335560" y="5176800"/>
                <a:chExt cx="223920" cy="45720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5335560" y="5176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400720" y="5311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473800" y="53118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386320" y="55040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5415120" y="5791320"/>
                <a:ext cx="223560" cy="457200"/>
                <a:chOff x="5415120" y="5791320"/>
                <a:chExt cx="223560" cy="45720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5415120" y="57913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478480" y="59245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551560" y="59245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465880" y="6118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8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780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782" name=""/>
              <p:cNvSpPr/>
              <p:nvPr/>
            </p:nvSpPr>
            <p:spPr>
              <a:xfrm flipV="1">
                <a:off x="4751280" y="4059000"/>
                <a:ext cx="120600" cy="136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V="1">
                <a:off x="4272120" y="4413240"/>
                <a:ext cx="168120" cy="18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5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6477120" y="2362320"/>
            <a:ext cx="1752480" cy="1295280"/>
            <a:chOff x="6477120" y="2362320"/>
            <a:chExt cx="1752480" cy="1295280"/>
          </a:xfrm>
        </p:grpSpPr>
        <p:sp>
          <p:nvSpPr>
            <p:cNvPr id="807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6784920" y="2362320"/>
              <a:ext cx="1216080" cy="1143000"/>
              <a:chOff x="6784920" y="2362320"/>
              <a:chExt cx="1216080" cy="1143000"/>
            </a:xfrm>
          </p:grpSpPr>
          <p:sp>
            <p:nvSpPr>
              <p:cNvPr id="809" name=""/>
              <p:cNvSpPr/>
              <p:nvPr/>
            </p:nvSpPr>
            <p:spPr>
              <a:xfrm flipV="1">
                <a:off x="7570800" y="2687400"/>
                <a:ext cx="120600" cy="136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969240" y="27939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7091280" y="3041640"/>
                <a:ext cx="168480" cy="18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2" name=""/>
              <p:cNvGrpSpPr/>
              <p:nvPr/>
            </p:nvGrpSpPr>
            <p:grpSpPr>
              <a:xfrm>
                <a:off x="7777080" y="2362320"/>
                <a:ext cx="223920" cy="457200"/>
                <a:chOff x="7777080" y="2362320"/>
                <a:chExt cx="223920" cy="45720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7777080" y="23623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7840800" y="24955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913520" y="24955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827840" y="2689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7319880" y="2590920"/>
                <a:ext cx="223920" cy="457200"/>
                <a:chOff x="7319880" y="2590920"/>
                <a:chExt cx="223920" cy="45720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7319880" y="25909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7383600" y="27241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7456320" y="27241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7370640" y="2917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6784920" y="2433600"/>
                <a:ext cx="223920" cy="457200"/>
                <a:chOff x="6784920" y="2433600"/>
                <a:chExt cx="223920" cy="45720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6784920" y="2433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848640" y="2568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919920" y="256860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834240" y="27608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862680" y="3048120"/>
                <a:ext cx="223920" cy="457200"/>
                <a:chOff x="6862680" y="3048120"/>
                <a:chExt cx="223920" cy="45720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6862680" y="30481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926400" y="31813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999120" y="31813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913440" y="3375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2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936720" y="577800"/>
            <a:ext cx="7772400" cy="311040"/>
            <a:chOff x="936720" y="577800"/>
            <a:chExt cx="7772400" cy="311040"/>
          </a:xfrm>
        </p:grpSpPr>
        <p:sp>
          <p:nvSpPr>
            <p:cNvPr id="836" name=""/>
            <p:cNvSpPr/>
            <p:nvPr/>
          </p:nvSpPr>
          <p:spPr>
            <a:xfrm>
              <a:off x="936720" y="887400"/>
              <a:ext cx="777060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8707320" y="577800"/>
              <a:ext cx="180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8153280" y="4799160"/>
            <a:ext cx="454320" cy="529920"/>
            <a:chOff x="8153280" y="4799160"/>
            <a:chExt cx="454320" cy="529920"/>
          </a:xfrm>
        </p:grpSpPr>
        <p:sp>
          <p:nvSpPr>
            <p:cNvPr id="840" name=""/>
            <p:cNvSpPr/>
            <p:nvPr/>
          </p:nvSpPr>
          <p:spPr>
            <a:xfrm>
              <a:off x="8153280" y="4799160"/>
              <a:ext cx="454320" cy="52992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845" name=""/>
          <p:cNvGrpSpPr/>
          <p:nvPr/>
        </p:nvGrpSpPr>
        <p:grpSpPr>
          <a:xfrm>
            <a:off x="3276720" y="2590920"/>
            <a:ext cx="453960" cy="530280"/>
            <a:chOff x="3276720" y="2590920"/>
            <a:chExt cx="453960" cy="530280"/>
          </a:xfrm>
        </p:grpSpPr>
        <p:sp>
          <p:nvSpPr>
            <p:cNvPr id="846" name=""/>
            <p:cNvSpPr/>
            <p:nvPr/>
          </p:nvSpPr>
          <p:spPr>
            <a:xfrm>
              <a:off x="3276720" y="2590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8228160" y="3733920"/>
            <a:ext cx="453960" cy="530280"/>
            <a:chOff x="8228160" y="3733920"/>
            <a:chExt cx="453960" cy="530280"/>
          </a:xfrm>
        </p:grpSpPr>
        <p:sp>
          <p:nvSpPr>
            <p:cNvPr id="851" name=""/>
            <p:cNvSpPr/>
            <p:nvPr/>
          </p:nvSpPr>
          <p:spPr>
            <a:xfrm>
              <a:off x="8228160" y="3733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3581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3311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80880" y="6019920"/>
            <a:ext cx="454320" cy="530280"/>
            <a:chOff x="380880" y="6019920"/>
            <a:chExt cx="454320" cy="530280"/>
          </a:xfrm>
        </p:grpSpPr>
        <p:sp>
          <p:nvSpPr>
            <p:cNvPr id="856" name=""/>
            <p:cNvSpPr/>
            <p:nvPr/>
          </p:nvSpPr>
          <p:spPr>
            <a:xfrm>
              <a:off x="380880" y="6019920"/>
              <a:ext cx="45432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 flipV="1">
            <a:off x="1371600" y="5935680"/>
            <a:ext cx="380880" cy="162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5486400" y="4106880"/>
            <a:ext cx="2057400" cy="871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486400" y="3195720"/>
            <a:ext cx="990720" cy="4665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1593720" y="4414320"/>
            <a:ext cx="316080" cy="543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3576240" y="5715000"/>
            <a:ext cx="12286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 flipV="1">
            <a:off x="2508120" y="3725640"/>
            <a:ext cx="1000080" cy="237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2738520" y="4341960"/>
            <a:ext cx="92376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2431800" y="2970360"/>
            <a:ext cx="77292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4878360" y="5257800"/>
            <a:ext cx="1752480" cy="1295280"/>
            <a:chOff x="4878360" y="5257800"/>
            <a:chExt cx="1752480" cy="1295280"/>
          </a:xfrm>
        </p:grpSpPr>
        <p:sp>
          <p:nvSpPr>
            <p:cNvPr id="871" name=""/>
            <p:cNvSpPr/>
            <p:nvPr/>
          </p:nvSpPr>
          <p:spPr>
            <a:xfrm>
              <a:off x="5106960" y="60451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045040" y="55389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878360" y="5257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5892840" y="563364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289480" y="57420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5413320" y="5989680"/>
              <a:ext cx="16848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6097680" y="5308560"/>
              <a:ext cx="225360" cy="457200"/>
              <a:chOff x="6097680" y="5308560"/>
              <a:chExt cx="225360" cy="457200"/>
            </a:xfrm>
          </p:grpSpPr>
          <p:sp>
            <p:nvSpPr>
              <p:cNvPr id="878" name=""/>
              <p:cNvSpPr/>
              <p:nvPr/>
            </p:nvSpPr>
            <p:spPr>
              <a:xfrm>
                <a:off x="609768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162840" y="54435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23556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14844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5640480" y="5537160"/>
              <a:ext cx="225360" cy="457200"/>
              <a:chOff x="5640480" y="5537160"/>
              <a:chExt cx="225360" cy="457200"/>
            </a:xfrm>
          </p:grpSpPr>
          <p:sp>
            <p:nvSpPr>
              <p:cNvPr id="883" name=""/>
              <p:cNvSpPr/>
              <p:nvPr/>
            </p:nvSpPr>
            <p:spPr>
              <a:xfrm>
                <a:off x="5640480" y="55371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705640" y="56721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778360" y="56721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691240" y="58644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534960" y="2820960"/>
            <a:ext cx="1752480" cy="1295280"/>
            <a:chOff x="534960" y="2820960"/>
            <a:chExt cx="1752480" cy="1295280"/>
          </a:xfrm>
        </p:grpSpPr>
        <p:sp>
          <p:nvSpPr>
            <p:cNvPr id="888" name=""/>
            <p:cNvSpPr/>
            <p:nvPr/>
          </p:nvSpPr>
          <p:spPr>
            <a:xfrm>
              <a:off x="763560" y="36082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1640" y="31003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34960" y="28209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1549440" y="319680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46080" y="33037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1069920" y="3552840"/>
              <a:ext cx="16848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1754280" y="2871720"/>
              <a:ext cx="225360" cy="457200"/>
              <a:chOff x="1754280" y="2871720"/>
              <a:chExt cx="225360" cy="457200"/>
            </a:xfrm>
          </p:grpSpPr>
          <p:sp>
            <p:nvSpPr>
              <p:cNvPr id="895" name=""/>
              <p:cNvSpPr/>
              <p:nvPr/>
            </p:nvSpPr>
            <p:spPr>
              <a:xfrm>
                <a:off x="1754280" y="28717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819440" y="30067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892160" y="30067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805040" y="31989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1297080" y="3100320"/>
              <a:ext cx="225360" cy="457200"/>
              <a:chOff x="1297080" y="3100320"/>
              <a:chExt cx="225360" cy="457200"/>
            </a:xfrm>
          </p:grpSpPr>
          <p:sp>
            <p:nvSpPr>
              <p:cNvPr id="900" name=""/>
              <p:cNvSpPr/>
              <p:nvPr/>
            </p:nvSpPr>
            <p:spPr>
              <a:xfrm>
                <a:off x="1297080" y="31003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62240" y="32353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434960" y="32353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347840" y="34275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4" name=""/>
          <p:cNvGrpSpPr/>
          <p:nvPr/>
        </p:nvGrpSpPr>
        <p:grpSpPr>
          <a:xfrm>
            <a:off x="1828800" y="5029200"/>
            <a:ext cx="1752480" cy="1295280"/>
            <a:chOff x="1828800" y="5029200"/>
            <a:chExt cx="1752480" cy="1295280"/>
          </a:xfrm>
        </p:grpSpPr>
        <p:sp>
          <p:nvSpPr>
            <p:cNvPr id="905" name=""/>
            <p:cNvSpPr/>
            <p:nvPr/>
          </p:nvSpPr>
          <p:spPr>
            <a:xfrm>
              <a:off x="2057400" y="58165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996920" y="53103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82880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2843280" y="540504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241720" y="55134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2363760" y="5761080"/>
              <a:ext cx="16848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3049560" y="5079960"/>
              <a:ext cx="225360" cy="457200"/>
              <a:chOff x="3049560" y="5079960"/>
              <a:chExt cx="225360" cy="457200"/>
            </a:xfrm>
          </p:grpSpPr>
          <p:sp>
            <p:nvSpPr>
              <p:cNvPr id="912" name=""/>
              <p:cNvSpPr/>
              <p:nvPr/>
            </p:nvSpPr>
            <p:spPr>
              <a:xfrm>
                <a:off x="3049560" y="5079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11292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18600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100320" y="5407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2592360" y="5308560"/>
              <a:ext cx="225360" cy="457200"/>
              <a:chOff x="2592360" y="5308560"/>
              <a:chExt cx="225360" cy="457200"/>
            </a:xfrm>
          </p:grpSpPr>
          <p:sp>
            <p:nvSpPr>
              <p:cNvPr id="917" name=""/>
              <p:cNvSpPr/>
              <p:nvPr/>
            </p:nvSpPr>
            <p:spPr>
              <a:xfrm>
                <a:off x="259236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65572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72880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64312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"/>
          <p:cNvGrpSpPr/>
          <p:nvPr/>
        </p:nvGrpSpPr>
        <p:grpSpPr>
          <a:xfrm>
            <a:off x="3657600" y="3506760"/>
            <a:ext cx="1752480" cy="1295280"/>
            <a:chOff x="3657600" y="3506760"/>
            <a:chExt cx="1752480" cy="1295280"/>
          </a:xfrm>
        </p:grpSpPr>
        <p:sp>
          <p:nvSpPr>
            <p:cNvPr id="922" name=""/>
            <p:cNvSpPr/>
            <p:nvPr/>
          </p:nvSpPr>
          <p:spPr>
            <a:xfrm>
              <a:off x="3886200" y="42940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25720" y="37861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57600" y="35067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4672080" y="388260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070520" y="39895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192560" y="4238640"/>
              <a:ext cx="16848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4878360" y="3557520"/>
              <a:ext cx="225360" cy="457200"/>
              <a:chOff x="4878360" y="3557520"/>
              <a:chExt cx="225360" cy="457200"/>
            </a:xfrm>
          </p:grpSpPr>
          <p:sp>
            <p:nvSpPr>
              <p:cNvPr id="929" name=""/>
              <p:cNvSpPr/>
              <p:nvPr/>
            </p:nvSpPr>
            <p:spPr>
              <a:xfrm>
                <a:off x="4878360" y="35575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94172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480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929120" y="38847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4421160" y="3786120"/>
              <a:ext cx="225360" cy="457200"/>
              <a:chOff x="4421160" y="3786120"/>
              <a:chExt cx="225360" cy="457200"/>
            </a:xfrm>
          </p:grpSpPr>
          <p:sp>
            <p:nvSpPr>
              <p:cNvPr id="934" name=""/>
              <p:cNvSpPr/>
              <p:nvPr/>
            </p:nvSpPr>
            <p:spPr>
              <a:xfrm>
                <a:off x="4421160" y="37861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48452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55760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471920" y="41133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8" name=""/>
          <p:cNvGrpSpPr/>
          <p:nvPr/>
        </p:nvGrpSpPr>
        <p:grpSpPr>
          <a:xfrm>
            <a:off x="6478560" y="2514600"/>
            <a:ext cx="1752480" cy="1295280"/>
            <a:chOff x="6478560" y="2514600"/>
            <a:chExt cx="1752480" cy="1295280"/>
          </a:xfrm>
        </p:grpSpPr>
        <p:sp>
          <p:nvSpPr>
            <p:cNvPr id="939" name=""/>
            <p:cNvSpPr/>
            <p:nvPr/>
          </p:nvSpPr>
          <p:spPr>
            <a:xfrm>
              <a:off x="6707160" y="33019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45240" y="27957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478560" y="25146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493040" y="289044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889680" y="29988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013520" y="3246480"/>
              <a:ext cx="16848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7697880" y="2565360"/>
              <a:ext cx="225360" cy="457200"/>
              <a:chOff x="7697880" y="2565360"/>
              <a:chExt cx="225360" cy="457200"/>
            </a:xfrm>
          </p:grpSpPr>
          <p:sp>
            <p:nvSpPr>
              <p:cNvPr id="946" name=""/>
              <p:cNvSpPr/>
              <p:nvPr/>
            </p:nvSpPr>
            <p:spPr>
              <a:xfrm>
                <a:off x="7697880" y="25653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763040" y="27003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835760" y="27003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748640" y="28926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7240680" y="2793960"/>
              <a:ext cx="225360" cy="457200"/>
              <a:chOff x="7240680" y="2793960"/>
              <a:chExt cx="225360" cy="457200"/>
            </a:xfrm>
          </p:grpSpPr>
          <p:sp>
            <p:nvSpPr>
              <p:cNvPr id="951" name=""/>
              <p:cNvSpPr/>
              <p:nvPr/>
            </p:nvSpPr>
            <p:spPr>
              <a:xfrm>
                <a:off x="7240680" y="2793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305840" y="29289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378560" y="2928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91440" y="3121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emantics or meaning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ttgenstein: meaning is us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utnam: meaning is a social constructio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958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Intelligence, communication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8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velopment of specie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munication before intelligenc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fficient communication impossible without abstraction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 other word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lligence is born of (a by-product of?) commun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938160" y="581040"/>
            <a:ext cx="7770960" cy="311040"/>
            <a:chOff x="938160" y="581040"/>
            <a:chExt cx="7770960" cy="311040"/>
          </a:xfrm>
        </p:grpSpPr>
        <p:sp>
          <p:nvSpPr>
            <p:cNvPr id="963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8707320" y="581040"/>
              <a:ext cx="180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 do have AI already: society is a large animal 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just like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-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AI benefits fro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ever organisation of its brain cells (peopl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ood communication of its brain cells (peopl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does not really need very bright peop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t needs submissive and communicative peop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938160" y="581040"/>
            <a:ext cx="7770960" cy="311040"/>
            <a:chOff x="938160" y="581040"/>
            <a:chExt cx="7770960" cy="311040"/>
          </a:xfrm>
        </p:grpSpPr>
        <p:sp>
          <p:nvSpPr>
            <p:cNvPr id="968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8707320" y="581040"/>
              <a:ext cx="180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Notes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oth apparently - almost - tru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gu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comm devi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936720" y="577800"/>
            <a:ext cx="7772400" cy="311040"/>
            <a:chOff x="936720" y="577800"/>
            <a:chExt cx="7772400" cy="311040"/>
          </a:xfrm>
        </p:grpSpPr>
        <p:sp>
          <p:nvSpPr>
            <p:cNvPr id="973" name=""/>
            <p:cNvSpPr/>
            <p:nvPr/>
          </p:nvSpPr>
          <p:spPr>
            <a:xfrm>
              <a:off x="936720" y="887400"/>
              <a:ext cx="777060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8707320" y="577800"/>
              <a:ext cx="180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harilik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0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277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ja millal on vabavara mõistlik kasutad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da vabavara on endaga kaasa tooma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978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60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NU ideoloog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ba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sekundaarne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suta kättesaadav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tahab olla vaba, on loomu poolest vaba - teadmiste ja tarkvara kopeerimine laiendab ühiskonna majanduslikku võimsust, kaotajaid (rumalamaks jääjaid) po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983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 kui tüüp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atame eraldi GPL ja LGPL 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988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u teel. 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valmiskomponend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1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: XSTONE/RQL example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298440"/>
            <a:ext cx="7772400" cy="311040"/>
            <a:chOff x="914400" y="298440"/>
            <a:chExt cx="7772400" cy="311040"/>
          </a:xfrm>
        </p:grpSpPr>
        <p:sp>
          <p:nvSpPr>
            <p:cNvPr id="11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85360" y="2984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91120" y="2508120"/>
            <a:ext cx="2438280" cy="23832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91120" y="1823760"/>
            <a:ext cx="380880" cy="3906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666880" y="3119400"/>
            <a:ext cx="533520" cy="542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5257800"/>
            <a:ext cx="83844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5257800"/>
            <a:ext cx="83808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3352680"/>
            <a:ext cx="1143000" cy="10670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3124080"/>
            <a:ext cx="838080" cy="8384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1523880"/>
            <a:ext cx="83844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1523880"/>
            <a:ext cx="83808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2767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05240" y="62485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09160" y="61722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585880" y="3728880"/>
            <a:ext cx="1076400" cy="2383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800600"/>
            <a:ext cx="6858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32880" y="441972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ston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738160" y="4876920"/>
            <a:ext cx="771480" cy="38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85480" y="3927600"/>
            <a:ext cx="19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ule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qlganda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271680" y="2432160"/>
            <a:ext cx="619200" cy="847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48200" y="3657600"/>
            <a:ext cx="115272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724280" y="2432160"/>
            <a:ext cx="381240" cy="847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5280" y="4079880"/>
            <a:ext cx="29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b service 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990720"/>
            <a:ext cx="37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wc: html UI toolkit on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4040" y="990720"/>
            <a:ext cx="41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ml: html ui toolkit on 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: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tekstitöötlus, raamatupidamise tarkvara, malemängu programmid jms), mida tihti, kuid mitte alati, saab juhtida ja mõne teise tarkvarapaketiga programmiliselt siduda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4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3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8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ndmebaasiserverid, www-serverid, mailiserverid, graafikaserverid nagu X11, operatsioonisüsteem ise jn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id programme saab põhimõtteliselt küll kasutada iseseisvalt, ilma millegita sidumata, kuid tüüpiliselt ehitatakse lõppkasutaja jaoks eraldi spetsiaalne rakendus, mis omakorda kasutab neid suuri valmiskomponente, a l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”””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‘%Jaan%’”””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“id: “,i[0],”name: “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5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kreetseid, piiratud funktsio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graafika joonistamine ekraanile, aritmeetika, failide lugemine ja kirjutamine, internetiühenduse käivitamine mingile aadressile jms)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, nn teegid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s kompilaatorite ja muude tarkvara-arendusvahenditega ning nad on enamasti 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5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No Slide Title</dc:title>
</cp:coreProperties>
</file>